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1BB-DE35-4EAC-A125-4ADF3541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778B-03D7-4A03-AAD4-56123B02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46B-891D-467D-81B4-D5AFA220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84EB-74A0-458D-8D69-9EC61760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6B08-FBA9-4A5F-9A3B-FA51AA6C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52B3-7A4F-48A1-A30E-6ED8584D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0C59-078B-4A89-8852-1560B650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1C76-E30F-484F-BF83-D9D55C30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C4D-3775-44C3-A155-04AC9112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AC22-84FE-4263-A348-D16DD319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269-5A2D-4618-ADC1-3529929D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B819-87DD-4780-A8D7-BE20B320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D1C5-B28C-45CC-8FD8-0C91AB78C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295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NARKSHIRE  ASSOC. 1922      LANARKSHIRE  ASSOC.  1928          LANARKSHIRE  ASSOC.           LANARKSHIRE  ASSOC.  100TH.                     BELTANE                                             BELT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9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TANE                                             BIGGAR                                           CARLUKE                                         CARLUKE                                         CARLUKE                          CARLUKE  V  CAMPHILL  100TH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LUKE  100TH                          CARLUKE  125TH                                      CARNWATH                                   CARSTAIRS                                        CASTLEHILL                             CASTLEHILL  6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00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LVILLE  PARK                      COLVILLE  PARK                              COLVILLE  PARK  5OTH                COLVILLE  PARK  75TH                            DALZELL                                           DALZ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13240" y="189000"/>
            <a:ext cx="1189080" cy="1157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40160" y="260280"/>
            <a:ext cx="95112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681960" y="404640"/>
            <a:ext cx="1023840" cy="92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8265960" y="260280"/>
            <a:ext cx="1097280" cy="1009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073240" y="1989000"/>
            <a:ext cx="1133640" cy="997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5024520" y="1628640"/>
            <a:ext cx="1390680" cy="131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488880" y="3141720"/>
            <a:ext cx="1352520" cy="161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800520" y="3860640"/>
            <a:ext cx="987480" cy="90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5168880" y="3716280"/>
            <a:ext cx="113364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6824520" y="3716280"/>
            <a:ext cx="97020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776160" y="5516640"/>
            <a:ext cx="82260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2144880" y="5373720"/>
            <a:ext cx="877680" cy="1060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3873600" y="5084640"/>
            <a:ext cx="858600" cy="1289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5240160" y="5373720"/>
            <a:ext cx="109728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681960" y="5157720"/>
            <a:ext cx="1352520" cy="127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8408880" y="5373720"/>
            <a:ext cx="87804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8265960" y="1700280"/>
            <a:ext cx="1206720" cy="1289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6608880" y="1773360"/>
            <a:ext cx="1326960" cy="1177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3728880" y="1989000"/>
            <a:ext cx="1009800" cy="1006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2000160" y="3429000"/>
            <a:ext cx="1284480" cy="1324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8193240" y="3933720"/>
            <a:ext cx="1326960" cy="819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560520" y="2060640"/>
            <a:ext cx="1060200" cy="960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560520" y="260280"/>
            <a:ext cx="1114200" cy="1057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2073240" y="260280"/>
            <a:ext cx="10857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07:54:25Z</dcterms:created>
  <dc:creator>JOHN YOUNG</dc:creator>
  <dc:description/>
  <dc:language>en-US</dc:language>
  <cp:lastModifiedBy>JY</cp:lastModifiedBy>
  <cp:lastPrinted>1999-12-15T19:38:48Z</cp:lastPrinted>
  <dcterms:modified xsi:type="dcterms:W3CDTF">2008-04-08T09:35:38Z</dcterms:modified>
  <cp:revision>25</cp:revision>
  <dc:subject/>
  <dc:title>No Slide Title</dc:title>
</cp:coreProperties>
</file>